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gif" ContentType="image/gif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21.gif" ContentType="image/gif"/>
  <Override PartName="/ppt/media/image20.png" ContentType="image/png"/>
  <Override PartName="/ppt/media/image2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9.png" ContentType="image/png"/>
  <Override PartName="/ppt/media/image6.gif" ContentType="image/gif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B0B1-6D32-4E33-9D14-7983CA423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B22A-FEEA-463F-AF27-5AAADC436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cientopia.org/blogs/scicurious/2011/05/04/science-101-the-neuron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B6B6-0D39-441B-A661-6A66C9DA2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CA" sz="400" spc="-1" strike="noStrike">
                <a:solidFill>
                  <a:srgbClr val="000000"/>
                </a:solidFill>
                <a:latin typeface="Arial"/>
              </a:rPr>
              <a:t>http://www.lionden.com/nerve_animations.ht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6445-7FF3-4C8C-ADF8-06EE65926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CA" sz="400" spc="-1" strike="noStrike">
                <a:solidFill>
                  <a:srgbClr val="000000"/>
                </a:solidFill>
                <a:latin typeface="Arial"/>
              </a:rPr>
              <a:t>http://elysium.wustl.edu/LingleLab/general.ht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311B-2DEF-47DD-BD22-3358A446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geonerd.blogspot.ca/2012/02/action-potentials-what-make-your-bra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9D3A-AC92-40B7-A897-A98B0BE35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uroscience for kids: https://faculty.washington.edu/chudler/a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s://faculty.washington.edu/chudler/a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AE0D-BF66-47DF-A519-EE0476660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459D-AACA-459A-A5D7-9292238BE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physiologyweb.com/lecture_notes/neuronal_action_potential/neuronal_action_potential_refractory_period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: no stimulus will trigger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: only a larger than normal stimulus will trigger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5BAD-196F-423A-8BCE-13E89AA57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0BFE-9EA8-49B8-AE5D-483E76EB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B665-339E-4A64-848F-64B986FA8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ntranik.org/conduction-of-the-action-potential-along-the-nerve-fib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190C-AD55-4807-8A2C-5DFEE14A5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7371-D6B9-46F1-AB74-E4E5AA7A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tudy.com/academy/lesson/synaptic-cleft-definition-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8BE7-A0C6-4048-B445-8EB8056F1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skarati.com/2014/02/06/whats-the-difference-between-a-chemical-synapse-and-an-electrical-synaps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5F0A-559A-421A-9F0A-C49781BFC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E796-4505-49DA-82A6-325B9246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http://cwx.prenhall.com/bookbind/pubbooks/morris5/chapter2/custom1/deluxe-conten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31A1-A9E7-4013-ACAB-B3DA6A7B3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BFF5-4449-4296-B793-991962D98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032B-D9C5-456F-A352-D4DD295CB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bio.miami.edu/tom/courses/bil360/bil360goods/08_synapti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FC9F-F522-44D4-B7D1-157CB7716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faculty.southwest.tn.edu/rburkett/A&amp;P1%20M1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pletehealthdallas.com/Anti-DepressantsNaturalAlternativeDalla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E95C-299B-48D2-912A-3E86E480F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98D7-4B8A-4192-BFE4-17756F8C1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ouplescommittedtolove.com/report_5_science.php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ves makes us produce endorphi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4B47-F391-4347-ACA1-AAB28193D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Image from:http://www.thenutritionpost.com/tag/brain-scan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encephalography – measuring brain activity…what is it actually measu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A070-80B1-408C-BB31-2A5915031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faculty.washington.edu/chudler/synaps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315C-6473-412D-9A90-8933B0892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people.eku.edu/ritchisong/301notes2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CB6F-8BC4-4403-BBB3-CF14B6A88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http://www.columbia.edu/cu/psychology/courses/1010/mangels/neuro/neurosignaling/neurosignaling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/K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D58E-821B-4F5D-81BF-A6E2D77C4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BB0B-3CC1-47EE-805E-E4D122121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A3C1-26F2-4C57-AE78-F50CE69A1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tudent.ccbcmd.edu/~gkaiser/biotutorials/eustruct/sppump.htm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stablishes the potential difference as well as the relative ion concentrations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D9F3-718E-4BF9-9402-223E957BF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69C-9282-4D92-849E-DA1A2B76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B2A-871A-458C-9B26-097C9104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CAB-F2C8-4CC3-8595-40F20FA9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041-611E-4E8E-A5E1-1CF4F193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AB9-72DD-4DE8-A23F-7A49AD6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5AE-AD87-4340-85B9-16A062CA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91F-7FE7-492E-9EFA-50C6EB9D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13D-9271-4AD0-8656-F87D70E2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AE3-482D-4756-AFE1-8DEB9CA1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9BE-64B3-4AF7-9A43-3E67D849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DB2-FFD2-4D09-A6D9-835CF5FD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CAE-2C51-4D13-BC7D-AF62005D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90E5-92C2-4650-B36F-5AB3E5DEB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rve Sig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olarization (+40 mV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mulus causes depolar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shold potent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ed, Na+ channels o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+ ions enter, causing rapid depolar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voltgtan"/>
          <p:cNvPicPr/>
          <p:nvPr/>
        </p:nvPicPr>
        <p:blipFill>
          <a:blip r:embed="rId1"/>
          <a:stretch/>
        </p:blipFill>
        <p:spPr>
          <a:xfrm>
            <a:off x="4648320" y="2984400"/>
            <a:ext cx="380988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larization (-70+ m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+ channels s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+ channel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+ moves out of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closure of K+ channels causes hyperpol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genera1"/>
          <p:cNvPicPr/>
          <p:nvPr/>
        </p:nvPicPr>
        <p:blipFill>
          <a:blip r:embed="rId1"/>
          <a:stretch/>
        </p:blipFill>
        <p:spPr>
          <a:xfrm>
            <a:off x="4834080" y="2786040"/>
            <a:ext cx="34383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Action Potential"/>
          <p:cNvPicPr/>
          <p:nvPr/>
        </p:nvPicPr>
        <p:blipFill>
          <a:blip r:embed="rId1"/>
          <a:stretch/>
        </p:blipFill>
        <p:spPr>
          <a:xfrm>
            <a:off x="2487600" y="1981080"/>
            <a:ext cx="416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try the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lso found this great website that seems to be created by the University of Washington, called “Neuroscience for Kids”.  This image is from the s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ontent Placeholder 2" descr="ap3.gif"/>
          <p:cNvPicPr/>
          <p:nvPr/>
        </p:nvPicPr>
        <p:blipFill>
          <a:blip r:embed="rId1"/>
          <a:srcRect l="0" t="-47236" r="0" b="-4723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science for Ki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6" descr="actionp1.gif"/>
          <p:cNvPicPr/>
          <p:nvPr/>
        </p:nvPicPr>
        <p:blipFill>
          <a:blip r:embed="rId1"/>
          <a:srcRect l="0" t="-7893" r="0" b="-7893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peak of an action potential until the membrane reaches resting potential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milli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action potential travels in one directio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3" descr="neuronal_action_potential_absolute_and_relative_refractory_periods_w.jpg"/>
          <p:cNvPicPr/>
          <p:nvPr/>
        </p:nvPicPr>
        <p:blipFill>
          <a:blip r:embed="rId1"/>
          <a:srcRect l="-8970" t="0" r="-8970" b="0"/>
          <a:stretch/>
        </p:blipFill>
        <p:spPr>
          <a:xfrm>
            <a:off x="611280" y="692280"/>
            <a:ext cx="784692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-Or-N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action potential doesn’t change;  intensity of stimulus is indicated b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ction pot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00 action potentials per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of conduction increases with diameter of a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elinated Ax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onduction-in-a-myelinated-nerve-fiber-saltatory-conduction"/>
          <p:cNvPicPr/>
          <p:nvPr/>
        </p:nvPicPr>
        <p:blipFill>
          <a:blip r:embed="rId1"/>
          <a:stretch/>
        </p:blipFill>
        <p:spPr>
          <a:xfrm>
            <a:off x="685800" y="2401920"/>
            <a:ext cx="77724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happens when the action potential reaches the axon termin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Impul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100 billion neurons in the human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ns can transmit 10-100 nerve impulses per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a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3" descr="neuron_synapse44.png"/>
          <p:cNvPicPr/>
          <p:nvPr/>
        </p:nvPicPr>
        <p:blipFill>
          <a:blip r:embed="rId1"/>
          <a:srcRect l="-14326" t="0" r="-14326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ntent Placeholder 5" descr="elec-chem-synapse.jpg"/>
          <p:cNvPicPr/>
          <p:nvPr/>
        </p:nvPicPr>
        <p:blipFill>
          <a:blip r:embed="rId1"/>
          <a:srcRect l="0" t="1531" r="0" b="153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Synap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F02_04"/>
          <p:cNvPicPr/>
          <p:nvPr/>
        </p:nvPicPr>
        <p:blipFill>
          <a:blip r:embed="rId1"/>
          <a:stretch/>
        </p:blipFill>
        <p:spPr>
          <a:xfrm>
            <a:off x="1143000" y="1647720"/>
            <a:ext cx="73152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McGraw-Hill narrated animation (&amp; quiz to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highered.mcgraw-hill.com/sites/0072943696/student_view0/chapter8/animation__chemical_synapse__quiz_1_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aptic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actively pumped out of 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potential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ynap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calcium channels to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flow in and cause synaptic vesicles to fuse with plasma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aptic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transmitters released into the synap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e across cleft and bind to receptors on postsynap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22400" y="52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figure-06-11b"/>
          <p:cNvPicPr/>
          <p:nvPr/>
        </p:nvPicPr>
        <p:blipFill>
          <a:blip r:embed="rId1"/>
          <a:stretch/>
        </p:blipFill>
        <p:spPr>
          <a:xfrm>
            <a:off x="4648320" y="2546280"/>
            <a:ext cx="38098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tylcholine (stimulatory) causes Na+ channels to open in postsynaptic neuron, continuing the action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tent Placeholder 2" descr="A&amp;P1 M12.jpg"/>
          <p:cNvPicPr/>
          <p:nvPr/>
        </p:nvPicPr>
        <p:blipFill>
          <a:blip r:embed="rId1"/>
          <a:srcRect l="0" t="-22080" r="0" b="-2208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transmitter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xin produc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ostridium teta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es muscles to contract (and not rel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4" descr="tetanus-21-728.jpg"/>
          <p:cNvPicPr/>
          <p:nvPr/>
        </p:nvPicPr>
        <p:blipFill>
          <a:blip r:embed="rId1"/>
          <a:srcRect l="0" t="-21992" r="0" b="-2199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otonin/Dop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transmitter that makes us feel happ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drugs block the reuptake pumps that absorb it &amp; cause elevated levels of happ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ontent Placeholder 4" descr="serotonin_in_synapse2-602x597.jpg"/>
          <p:cNvPicPr/>
          <p:nvPr/>
        </p:nvPicPr>
        <p:blipFill>
          <a:blip r:embed="rId1"/>
          <a:srcRect l="0" t="-4444" r="0" b="-4444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rph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us m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ph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transmitters that block pain receptors &amp; produce pleasurable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lowerhead_205px"/>
          <p:cNvPicPr/>
          <p:nvPr/>
        </p:nvPicPr>
        <p:blipFill>
          <a:blip r:embed="rId1"/>
          <a:stretch/>
        </p:blipFill>
        <p:spPr>
          <a:xfrm>
            <a:off x="4946760" y="1981080"/>
            <a:ext cx="3211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baby-brain-scan"/>
          <p:cNvPicPr/>
          <p:nvPr/>
        </p:nvPicPr>
        <p:blipFill>
          <a:blip r:embed="rId1"/>
          <a:stretch/>
        </p:blipFill>
        <p:spPr>
          <a:xfrm>
            <a:off x="1066680" y="609480"/>
            <a:ext cx="6969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try the quiz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nation from Neuroscience for K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2" descr="synani1.gif"/>
          <p:cNvPicPr/>
          <p:nvPr/>
        </p:nvPicPr>
        <p:blipFill>
          <a:blip r:embed="rId1"/>
          <a:srcRect l="-21549" t="0" r="-2154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relative concentrations of positive ions (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n either side of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Neuron_action_potential"/>
          <p:cNvPicPr/>
          <p:nvPr/>
        </p:nvPicPr>
        <p:blipFill>
          <a:blip r:embed="rId1"/>
          <a:stretch/>
        </p:blipFill>
        <p:spPr>
          <a:xfrm>
            <a:off x="4648320" y="2562120"/>
            <a:ext cx="3809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hannelsPump"/>
          <p:cNvPicPr/>
          <p:nvPr/>
        </p:nvPicPr>
        <p:blipFill>
          <a:blip r:embed="rId1"/>
          <a:stretch/>
        </p:blipFill>
        <p:spPr>
          <a:xfrm>
            <a:off x="609480" y="1711440"/>
            <a:ext cx="800100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 (&amp; Qui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cGraw-Hill narrated animation &amp; quiz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highered.mcgraw-hill.com/sites/0072495855/student_view0/chapter14/animation__the_nerve_impuls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ing Potential (-70 m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 of cell is more negative (-70 mV) than out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rane i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ize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ive transport pump establishes resting potential, pumping out 3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every 2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ppump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repola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restoration of resting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0:01:39Z</dcterms:created>
  <dc:creator>rubina khan</dc:creator>
  <dc:description/>
  <dc:language>en-US</dc:language>
  <cp:lastModifiedBy>rubina khan</cp:lastModifiedBy>
  <dcterms:modified xsi:type="dcterms:W3CDTF">2017-05-12T03:31:33Z</dcterms:modified>
  <cp:revision>242</cp:revision>
  <dc:subject/>
  <dc:title>The Importance of the Nervous System</dc:title>
</cp:coreProperties>
</file>